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138120" y="8997840"/>
            <a:ext cx="8769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E271C7A-0DFB-4CA3-B710-4FAEC496C0B5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25080" y="717480"/>
            <a:ext cx="4700520" cy="352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125360" y="4543200"/>
            <a:ext cx="4808880" cy="4251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4000" y="714240"/>
            <a:ext cx="4705200" cy="35308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53640" y="5062320"/>
            <a:ext cx="524196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o around the room and have everyone explain who they are and what their objectives are.  Record the objectives on flip chart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06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69880" y="6567480"/>
            <a:ext cx="873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rch 2006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naging TSP Teams - Module 1 - </a:t>
            </a:r>
            <a:fld id="{684DD594-5F35-477F-8195-978528A9B352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6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168080" y="6567480"/>
            <a:ext cx="873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rch 2006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naging TSP Teams - Module 1 - </a:t>
            </a:r>
            <a:fld id="{CBCB24CB-5780-4B43-9584-7139BE503B2C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26"/>
          <p:cNvSpPr/>
          <p:nvPr/>
        </p:nvSpPr>
        <p:spPr>
          <a:xfrm>
            <a:off x="1028880" y="2050920"/>
            <a:ext cx="2914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3" name="Text Box 1037"/>
          <p:cNvSpPr/>
          <p:nvPr/>
        </p:nvSpPr>
        <p:spPr>
          <a:xfrm>
            <a:off x="966960" y="1893960"/>
            <a:ext cx="775152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200" spc="-1" strike="noStrike">
                <a:solidFill>
                  <a:srgbClr val="39536b"/>
                </a:solidFill>
                <a:latin typeface="Arial Narrow"/>
              </a:rPr>
              <a:t>Managing TSP Teams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Module 4: Building Self-directed Teams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Process Structur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17360" y="1712520"/>
            <a:ext cx="3632040" cy="45896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200" bIns="52200" anchor="t">
            <a:normAutofit fontScale="98000"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projects can start on any phase or cycl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ach phase or cycle starts with a launch or re-launch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strategy is to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8144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velop in increments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8144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e multiple cycl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8144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ork-ahea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permits whatever process structure makes the most business and technical sen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4" name="Oval 15"/>
          <p:cNvSpPr/>
          <p:nvPr/>
        </p:nvSpPr>
        <p:spPr>
          <a:xfrm>
            <a:off x="5648400" y="4338720"/>
            <a:ext cx="1447560" cy="53316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Phase or cycle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Postmortem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7210440" y="3195720"/>
            <a:ext cx="1306440" cy="1066680"/>
          </a:xfrm>
          <a:prstGeom prst="rect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phase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or cycle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5915160" y="1900080"/>
            <a:ext cx="912600" cy="4194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47" name="AutoShape 18"/>
          <p:cNvCxnSpPr>
            <a:stCxn id="146" idx="6"/>
            <a:endCxn id="145" idx="0"/>
          </p:cNvCxnSpPr>
          <p:nvPr/>
        </p:nvCxnSpPr>
        <p:spPr>
          <a:xfrm>
            <a:off x="6827760" y="2109960"/>
            <a:ext cx="1037520" cy="1086480"/>
          </a:xfrm>
          <a:prstGeom prst="curvedConnector2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</p:cxnSp>
      <p:cxnSp>
        <p:nvCxnSpPr>
          <p:cNvPr id="148" name="AutoShape 19"/>
          <p:cNvCxnSpPr>
            <a:stCxn id="145" idx="2"/>
            <a:endCxn id="144" idx="6"/>
          </p:cNvCxnSpPr>
          <p:nvPr/>
        </p:nvCxnSpPr>
        <p:spPr>
          <a:xfrm rot="5400000">
            <a:off x="7308000" y="4049280"/>
            <a:ext cx="343800" cy="769320"/>
          </a:xfrm>
          <a:prstGeom prst="curvedConnector2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</p:cxnSp>
      <p:sp>
        <p:nvSpPr>
          <p:cNvPr id="149" name="Oval 20"/>
          <p:cNvSpPr/>
          <p:nvPr/>
        </p:nvSpPr>
        <p:spPr>
          <a:xfrm>
            <a:off x="5840280" y="2662200"/>
            <a:ext cx="1065240" cy="4190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Re-launch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50" name="AutoShape 21"/>
          <p:cNvCxnSpPr>
            <a:stCxn id="144" idx="2"/>
            <a:endCxn id="149" idx="2"/>
          </p:cNvCxnSpPr>
          <p:nvPr/>
        </p:nvCxnSpPr>
        <p:spPr>
          <a:xfrm flipH="1" rot="10800000">
            <a:off x="5647320" y="2871000"/>
            <a:ext cx="192600" cy="1734480"/>
          </a:xfrm>
          <a:prstGeom prst="curvedConnector5">
            <a:avLst>
              <a:gd name="adj1" fmla="val -118913"/>
              <a:gd name="adj2" fmla="val 49989"/>
              <a:gd name="adj3" fmla="val -118913"/>
            </a:avLst>
          </a:prstGeom>
          <a:ln w="12600">
            <a:solidFill>
              <a:srgbClr val="39536b"/>
            </a:solidFill>
            <a:miter/>
            <a:tailEnd len="sm" type="triangle" w="sm"/>
          </a:ln>
        </p:spPr>
      </p:cxnSp>
      <p:cxnSp>
        <p:nvCxnSpPr>
          <p:cNvPr id="151" name="AutoShape 22"/>
          <p:cNvCxnSpPr>
            <a:stCxn id="149" idx="6"/>
            <a:endCxn id="145" idx="0"/>
          </p:cNvCxnSpPr>
          <p:nvPr/>
        </p:nvCxnSpPr>
        <p:spPr>
          <a:xfrm>
            <a:off x="6905520" y="2871720"/>
            <a:ext cx="959760" cy="324720"/>
          </a:xfrm>
          <a:prstGeom prst="curvedConnector2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</p:cxnSp>
      <p:sp>
        <p:nvSpPr>
          <p:cNvPr id="152" name="Oval 23"/>
          <p:cNvSpPr/>
          <p:nvPr/>
        </p:nvSpPr>
        <p:spPr>
          <a:xfrm>
            <a:off x="5648400" y="5234040"/>
            <a:ext cx="1447560" cy="5335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Projec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Postmortem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53" name="AutoShape 24"/>
          <p:cNvCxnSpPr>
            <a:stCxn id="145" idx="2"/>
            <a:endCxn id="152" idx="6"/>
          </p:cNvCxnSpPr>
          <p:nvPr/>
        </p:nvCxnSpPr>
        <p:spPr>
          <a:xfrm rot="5400000">
            <a:off x="6860160" y="4497120"/>
            <a:ext cx="1239120" cy="769320"/>
          </a:xfrm>
          <a:prstGeom prst="curvedConnector2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826920"/>
            <a:ext cx="7421400" cy="563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Launch Pro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379880" y="159876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Day 1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025640" y="2133720"/>
            <a:ext cx="144756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1.  Establish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roduct and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business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025640" y="3430440"/>
            <a:ext cx="144756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2.  Assign role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 defin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team goal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057120" y="160020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Day 2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778120" y="2133720"/>
            <a:ext cx="144792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4.  Build overall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near-term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lan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778120" y="3430440"/>
            <a:ext cx="144792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5.  Develop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the quality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lan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2778120" y="4724280"/>
            <a:ext cx="144792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6.  Build</a:t>
            </a:r>
            <a:br>
              <a:rPr sz="1200"/>
            </a:b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individual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consolidate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lan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1712880" y="312408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3540240" y="312408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3540240" y="4419720"/>
            <a:ext cx="0" cy="3045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5" name="Line 13"/>
          <p:cNvSpPr/>
          <p:nvPr/>
        </p:nvSpPr>
        <p:spPr>
          <a:xfrm flipV="1">
            <a:off x="2627280" y="2666880"/>
            <a:ext cx="0" cy="327672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2627280" y="2666880"/>
            <a:ext cx="1508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4884840" y="160020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Day 3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4606920" y="2133720"/>
            <a:ext cx="144792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7.  Conduc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risk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606920" y="3430440"/>
            <a:ext cx="144792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8.  Prepare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briefing an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launch repor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6512040" y="3430440"/>
            <a:ext cx="144756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ostmortem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1" name="Line 19"/>
          <p:cNvSpPr/>
          <p:nvPr/>
        </p:nvSpPr>
        <p:spPr>
          <a:xfrm>
            <a:off x="5369040" y="312408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2" name="Line 20"/>
          <p:cNvSpPr/>
          <p:nvPr/>
        </p:nvSpPr>
        <p:spPr>
          <a:xfrm>
            <a:off x="7197840" y="312408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 flipV="1">
            <a:off x="4454640" y="2666880"/>
            <a:ext cx="0" cy="327672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4" name="Line 22"/>
          <p:cNvSpPr/>
          <p:nvPr/>
        </p:nvSpPr>
        <p:spPr>
          <a:xfrm>
            <a:off x="4454640" y="2666880"/>
            <a:ext cx="15228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5" name="Line 23"/>
          <p:cNvSpPr/>
          <p:nvPr/>
        </p:nvSpPr>
        <p:spPr>
          <a:xfrm flipH="1">
            <a:off x="3540240" y="5943600"/>
            <a:ext cx="91440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6" name="Line 24"/>
          <p:cNvSpPr/>
          <p:nvPr/>
        </p:nvSpPr>
        <p:spPr>
          <a:xfrm flipV="1">
            <a:off x="3540240" y="5714640"/>
            <a:ext cx="0" cy="2286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6791040" y="160020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Day 4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8" name="Rectangle 26"/>
          <p:cNvSpPr/>
          <p:nvPr/>
        </p:nvSpPr>
        <p:spPr>
          <a:xfrm>
            <a:off x="6512040" y="2133720"/>
            <a:ext cx="144756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9.  Hol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9" name="Line 27"/>
          <p:cNvSpPr/>
          <p:nvPr/>
        </p:nvSpPr>
        <p:spPr>
          <a:xfrm flipV="1">
            <a:off x="6359400" y="2666520"/>
            <a:ext cx="0" cy="197964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0" name="Line 28"/>
          <p:cNvSpPr/>
          <p:nvPr/>
        </p:nvSpPr>
        <p:spPr>
          <a:xfrm>
            <a:off x="6359400" y="2666880"/>
            <a:ext cx="1526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1" name="Line 29"/>
          <p:cNvSpPr/>
          <p:nvPr/>
        </p:nvSpPr>
        <p:spPr>
          <a:xfrm flipH="1">
            <a:off x="5368680" y="4646520"/>
            <a:ext cx="99036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2" name="Line 30"/>
          <p:cNvSpPr/>
          <p:nvPr/>
        </p:nvSpPr>
        <p:spPr>
          <a:xfrm flipV="1">
            <a:off x="5369040" y="4419720"/>
            <a:ext cx="0" cy="2268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3" name="Rectangle 31"/>
          <p:cNvSpPr/>
          <p:nvPr/>
        </p:nvSpPr>
        <p:spPr>
          <a:xfrm>
            <a:off x="1025640" y="4724280"/>
            <a:ext cx="144756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3.  Produc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 proces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4" name="Line 32"/>
          <p:cNvSpPr/>
          <p:nvPr/>
        </p:nvSpPr>
        <p:spPr>
          <a:xfrm>
            <a:off x="1712880" y="4419720"/>
            <a:ext cx="0" cy="3045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5" name="Line 33"/>
          <p:cNvSpPr/>
          <p:nvPr/>
        </p:nvSpPr>
        <p:spPr>
          <a:xfrm flipV="1">
            <a:off x="1712880" y="5714640"/>
            <a:ext cx="0" cy="2286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6" name="Line 34"/>
          <p:cNvSpPr/>
          <p:nvPr/>
        </p:nvSpPr>
        <p:spPr>
          <a:xfrm flipH="1">
            <a:off x="1712880" y="5943600"/>
            <a:ext cx="91440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7" name="Text Box 35"/>
          <p:cNvSpPr/>
          <p:nvPr/>
        </p:nvSpPr>
        <p:spPr>
          <a:xfrm>
            <a:off x="4884840" y="4903920"/>
            <a:ext cx="38401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 qualified TSP team coach guides the team through a defined process to develop its plan and to negotiate that plan with managemen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Launch Meeting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015560" y="1728360"/>
            <a:ext cx="7410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launch meeting 1,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cribes what they want don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plains why the job is importan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swers the team member’s ques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s of meeting 1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tivate the team members to do this job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sure that the team understands management’s criteria for suc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Launch Meetings 2 through 8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15560" y="1728360"/>
            <a:ext cx="7410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uring the TSP launch, the team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a process and strategy for doing the job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detailed team and personal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ess the risks of their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sent their plans to managemen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cause the team and team leader have a great deal to do during the launch, the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guided by a trained TSP coach to help them focus on building th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 without observ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Launch Meeting 9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015560" y="1715760"/>
            <a:ext cx="7410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launch meeting 9, the team presents its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will be the best plan that the team knows how to mak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members do not see how to meet management’s objectives, they present alternative pla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’s responsibilities in meeting 9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be the team’s pla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ess the plan’s accuracy and completen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pprove the plan if it is suit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Launch Meeting 9 (cont.)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015560" y="1715760"/>
            <a:ext cx="7410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plans rarely meet all of management’s objectiv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this occurs, managers mus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the most suitable alternat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ggest other choices if no suitable plan is availabl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meeting’s conclusion,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cides how to proce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lls the team its decisio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plains why they made the decis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anks the team members for thei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Team Oper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28880" y="1727280"/>
            <a:ext cx="741024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llowing the launch, the team does the job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llows its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ks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gularly assesses project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ports to management on status and progr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longer jobs, TSP teams periodically relaunch their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Relaun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028880" y="1727280"/>
            <a:ext cx="741024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s can make detailed plans only for about three to six month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nger-range plans are rarely accurate enough to guide development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relaunch is needed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pdate the plan based on new knowled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new detailed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elaunch is similar to the launch proces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Use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028520" y="1728360"/>
            <a:ext cx="763236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The TSP is used by a growing number of organizations, such a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965520" y="2573280"/>
            <a:ext cx="205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ABB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AI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Bechte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Boe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Census Bureau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Comne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ED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Ericss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Honeywel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IBM Japa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Intui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Kaise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4257720" y="2560680"/>
            <a:ext cx="2533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Litt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Microsof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NASA Langle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SAIC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SDRC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eradyn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rilog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United Defens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USAF: Hill AFB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USN: China Lak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USN: NAVOCEANO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Xerox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Performance Summary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017720" y="1709640"/>
          <a:ext cx="7413480" cy="3930840"/>
        </p:xfrm>
        <a:graphic>
          <a:graphicData uri="http://schemas.openxmlformats.org/drawingml/2006/table">
            <a:tbl>
              <a:tblPr/>
              <a:tblGrid>
                <a:gridCol w="1766880"/>
                <a:gridCol w="1981080"/>
                <a:gridCol w="3665520"/>
              </a:tblGrid>
              <a:tr h="869040">
                <a:tc>
                  <a:txBody>
                    <a:bodyPr lIns="45720" rIns="45720" tIns="274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45720" rIns="45720" tIns="274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SP Impact Study (2003)*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ypical Industry Performance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(Standish Group)**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1531800">
                <a:tc>
                  <a:txBody>
                    <a:bodyPr lIns="182880" rIns="182880" tIns="182880" bIns="18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chedule error average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182880" rIns="182880" tIns="182880" bIns="18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%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1530000">
                <a:tc>
                  <a:txBody>
                    <a:bodyPr lIns="182880" rIns="182880" tIns="182880" bIns="18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chedule error range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182880" rIns="182880" tIns="182880" bIns="18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-20% to +27%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Text Box 29"/>
          <p:cNvSpPr/>
          <p:nvPr/>
        </p:nvSpPr>
        <p:spPr>
          <a:xfrm>
            <a:off x="1121760" y="5765760"/>
            <a:ext cx="51253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300" spc="-1" strike="noStrike">
                <a:solidFill>
                  <a:srgbClr val="39536b"/>
                </a:solidFill>
                <a:latin typeface="Arial"/>
              </a:rPr>
              <a:t>* From a study of 20 projects in 13 organizations conducted in 2003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300" spc="-1" strike="noStrike">
                <a:solidFill>
                  <a:srgbClr val="39536b"/>
                </a:solidFill>
                <a:latin typeface="Arial"/>
              </a:rPr>
              <a:t>** Of the unsuccessful projects, average schedule error was 222%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2147760" y="2181240"/>
            <a:ext cx="276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08" name="Picture 50" descr=""/>
          <p:cNvPicPr/>
          <p:nvPr/>
        </p:nvPicPr>
        <p:blipFill>
          <a:blip r:embed="rId1"/>
          <a:srcRect l="11172" t="4655" r="19725" b="8452"/>
          <a:stretch/>
        </p:blipFill>
        <p:spPr>
          <a:xfrm>
            <a:off x="4836960" y="2602080"/>
            <a:ext cx="358956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9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Performance Summary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017720" y="1709640"/>
          <a:ext cx="7413480" cy="4145040"/>
        </p:xfrm>
        <a:graphic>
          <a:graphicData uri="http://schemas.openxmlformats.org/drawingml/2006/table">
            <a:tbl>
              <a:tblPr/>
              <a:tblGrid>
                <a:gridCol w="2670120"/>
                <a:gridCol w="2479680"/>
                <a:gridCol w="2263680"/>
              </a:tblGrid>
              <a:tr h="115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SP Impact Study (2003)*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ypical Industry Performance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6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ystem test defects per thousand instructions</a:t>
                      </a:r>
                      <a:endParaRPr b="0" lang="en-US" sz="16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6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0.4 avg. </a:t>
                      </a:r>
                      <a:endParaRPr b="0" lang="en-US" sz="16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6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0.0 to 0.9</a:t>
                      </a:r>
                      <a:endParaRPr b="0" lang="en-US" sz="16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6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 to 14</a:t>
                      </a:r>
                      <a:endParaRPr b="0" lang="en-US" sz="16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6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Released defects per thousand instructions</a:t>
                      </a:r>
                      <a:endParaRPr b="0" lang="en-US" sz="16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6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0.06 avg.</a:t>
                      </a:r>
                      <a:endParaRPr b="0" lang="en-US" sz="16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6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0.0 to 0.2</a:t>
                      </a:r>
                      <a:endParaRPr b="0" lang="en-US" sz="16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6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 to 7</a:t>
                      </a:r>
                      <a:endParaRPr b="0" lang="en-US" sz="16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6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ystem test effort (% of total effort)</a:t>
                      </a: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6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% avg.</a:t>
                      </a:r>
                      <a:endParaRPr b="0" lang="en-US" sz="16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6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% to 7% </a:t>
                      </a:r>
                      <a:endParaRPr b="0" lang="en-US" sz="16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6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0%</a:t>
                      </a:r>
                      <a:endParaRPr b="0" lang="en-US" sz="16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Text Box 3"/>
          <p:cNvSpPr/>
          <p:nvPr/>
        </p:nvSpPr>
        <p:spPr>
          <a:xfrm>
            <a:off x="1083960" y="6080040"/>
            <a:ext cx="5125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300" spc="-1" strike="noStrike">
                <a:solidFill>
                  <a:srgbClr val="39536b"/>
                </a:solidFill>
                <a:latin typeface="Arial"/>
              </a:rPr>
              <a:t>* From a study of 20 projects in 13 organizations conducted in 2003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2147760" y="2181240"/>
            <a:ext cx="276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Performance Comparison*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4627440" y="1538280"/>
            <a:ext cx="3578400" cy="2189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942840" y="1538280"/>
            <a:ext cx="3578400" cy="2189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3"/>
          <a:stretch/>
        </p:blipFill>
        <p:spPr>
          <a:xfrm>
            <a:off x="942840" y="3759120"/>
            <a:ext cx="3567240" cy="2184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"/>
          <p:cNvPicPr/>
          <p:nvPr/>
        </p:nvPicPr>
        <p:blipFill>
          <a:blip r:embed="rId4"/>
          <a:stretch/>
        </p:blipFill>
        <p:spPr>
          <a:xfrm>
            <a:off x="4627440" y="3759120"/>
            <a:ext cx="3568680" cy="21844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7"/>
          <p:cNvSpPr/>
          <p:nvPr/>
        </p:nvSpPr>
        <p:spPr>
          <a:xfrm>
            <a:off x="1027440" y="6111720"/>
            <a:ext cx="5546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300" spc="-1" strike="noStrike">
                <a:solidFill>
                  <a:srgbClr val="9c2108"/>
                </a:solidFill>
                <a:latin typeface="Arial"/>
              </a:rPr>
              <a:t>*From a study of 18 TSP projects in four organizations conducted in 2000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cess Improvement Pays Off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1058760" y="1635120"/>
            <a:ext cx="7113600" cy="476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6120" y="839520"/>
            <a:ext cx="74214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edictable Schedul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15880" y="1565280"/>
            <a:ext cx="8381880" cy="48340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4"/>
          <p:cNvSpPr/>
          <p:nvPr/>
        </p:nvSpPr>
        <p:spPr>
          <a:xfrm>
            <a:off x="4357440" y="2773440"/>
            <a:ext cx="148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M introduced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6645600" y="3611520"/>
            <a:ext cx="139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P introduced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5" name="Line 6"/>
          <p:cNvSpPr/>
          <p:nvPr/>
        </p:nvSpPr>
        <p:spPr>
          <a:xfrm flipH="1">
            <a:off x="4141440" y="3000240"/>
            <a:ext cx="228600" cy="154080"/>
          </a:xfrm>
          <a:prstGeom prst="line">
            <a:avLst/>
          </a:prstGeom>
          <a:ln w="12600">
            <a:solidFill>
              <a:srgbClr val="96969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6" name="Line 7"/>
          <p:cNvSpPr/>
          <p:nvPr/>
        </p:nvSpPr>
        <p:spPr>
          <a:xfrm flipH="1">
            <a:off x="6428880" y="3838680"/>
            <a:ext cx="228600" cy="153720"/>
          </a:xfrm>
          <a:prstGeom prst="line">
            <a:avLst/>
          </a:prstGeom>
          <a:ln w="12600">
            <a:solidFill>
              <a:srgbClr val="96969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1029960" y="6342120"/>
            <a:ext cx="117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39536b"/>
                </a:solidFill>
                <a:latin typeface="Arial"/>
              </a:rPr>
              <a:t>[Source: AIS]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69480" y="826920"/>
            <a:ext cx="7419960" cy="5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 TSP Industrial Project  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41040" y="1701360"/>
            <a:ext cx="741060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Plan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 </a:t>
            </a:r>
            <a:r>
              <a:rPr b="1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Actua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ize estimate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10,000 LOC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89,995 LOC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ffort estimate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,000 hours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4,711 hour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chedule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77 weeks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  71 week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duct quality </a:t>
            </a: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(Defects/KLOC removed in phase)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tegration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.0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 0.2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ystem test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0.1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 0.4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ield trial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   0.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0.02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Quality levels improved 20 times over prior projec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ctual effort and schedule were within 8% of plan (early)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am-Member Comme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15920" y="1763280"/>
            <a:ext cx="76010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ith proper support, TSP developers can produce extraordinary resul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velopers like to use the TSP: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This really feels like a tight team.”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The TSP forces you to design, to think the whole thing out.”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Design time is way up but code time decreased to compensate.”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Tracking your time is an eye opener.”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Really good teamwork on this project - no duplication of effort.”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I’m more productive.”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Gives you incredible insight into project performance.”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Wonderful to have team members assigned specific roles.”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Team really came together to make the plan.”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I feel included and empowered.”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15920" y="1715760"/>
            <a:ext cx="76644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be successful, teams ne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ear goals and ro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greed-upon processes and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 self-directed teams, the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wn their own processes and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ir goals and ro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oluntarily commit to their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lieve their commitments are achiev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launch builds self-directed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28880" y="1730520"/>
            <a:ext cx="7410240" cy="45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 te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f-directed te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9080" y="86472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A Software Product is a Team Effort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3240" y="1738080"/>
            <a:ext cx="3632400" cy="4521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oftware products are made from software modules or componen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se modules are designed, built, integrated, and tested by a team of software developer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eam’s skills, spirit, discipline, and commitment govern the resul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4179" t="-1715" r="3920" b="-56"/>
          <a:stretch/>
        </p:blipFill>
        <p:spPr>
          <a:xfrm>
            <a:off x="4638600" y="1749600"/>
            <a:ext cx="3772080" cy="27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uccessful Team Practic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28880" y="1730520"/>
            <a:ext cx="7410240" cy="45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development teams work well, they generally have successful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be successful, teams ne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ear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ed ro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d proces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greed-upon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s also must be motivated and personally commit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out these, teams will rarely be successfu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lf-directed Team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pSp>
        <p:nvGrpSpPr>
          <p:cNvPr id="109" name="Group 27"/>
          <p:cNvGrpSpPr/>
          <p:nvPr/>
        </p:nvGrpSpPr>
        <p:grpSpPr>
          <a:xfrm>
            <a:off x="1231920" y="2181240"/>
            <a:ext cx="2146320" cy="1752480"/>
            <a:chOff x="1231920" y="2181240"/>
            <a:chExt cx="2146320" cy="1752480"/>
          </a:xfrm>
        </p:grpSpPr>
        <p:sp>
          <p:nvSpPr>
            <p:cNvPr id="110" name="Oval 4"/>
            <p:cNvSpPr/>
            <p:nvPr/>
          </p:nvSpPr>
          <p:spPr>
            <a:xfrm>
              <a:off x="2014560" y="2181240"/>
              <a:ext cx="406440" cy="3697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1" name="Oval 5"/>
            <p:cNvSpPr/>
            <p:nvPr/>
          </p:nvSpPr>
          <p:spPr>
            <a:xfrm>
              <a:off x="1231920" y="3563640"/>
              <a:ext cx="406440" cy="370080"/>
            </a:xfrm>
            <a:prstGeom prst="ellipse">
              <a:avLst/>
            </a:prstGeom>
            <a:noFill/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1811160" y="3563640"/>
              <a:ext cx="406440" cy="370080"/>
            </a:xfrm>
            <a:prstGeom prst="ellipse">
              <a:avLst/>
            </a:prstGeom>
            <a:noFill/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3" name="Oval 7"/>
            <p:cNvSpPr/>
            <p:nvPr/>
          </p:nvSpPr>
          <p:spPr>
            <a:xfrm>
              <a:off x="2390760" y="3563640"/>
              <a:ext cx="406440" cy="370080"/>
            </a:xfrm>
            <a:prstGeom prst="ellipse">
              <a:avLst/>
            </a:prstGeom>
            <a:noFill/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4" name="Oval 8"/>
            <p:cNvSpPr/>
            <p:nvPr/>
          </p:nvSpPr>
          <p:spPr>
            <a:xfrm>
              <a:off x="2971800" y="3563640"/>
              <a:ext cx="406440" cy="370080"/>
            </a:xfrm>
            <a:prstGeom prst="ellipse">
              <a:avLst/>
            </a:prstGeom>
            <a:noFill/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cxnSp>
          <p:nvCxnSpPr>
            <p:cNvPr id="115" name="AutoShape 9"/>
            <p:cNvCxnSpPr>
              <a:stCxn id="110" idx="4"/>
              <a:endCxn id="111" idx="7"/>
            </p:cNvCxnSpPr>
            <p:nvPr/>
          </p:nvCxnSpPr>
          <p:spPr>
            <a:xfrm flipH="1">
              <a:off x="1579680" y="2550600"/>
              <a:ext cx="638280" cy="1067400"/>
            </a:xfrm>
            <a:prstGeom prst="straightConnector1">
              <a:avLst/>
            </a:prstGeom>
            <a:ln w="9360">
              <a:solidFill>
                <a:srgbClr val="39536b"/>
              </a:solidFill>
              <a:miter/>
              <a:tailEnd len="med" type="triangle" w="med"/>
            </a:ln>
          </p:spPr>
        </p:cxnSp>
        <p:cxnSp>
          <p:nvCxnSpPr>
            <p:cNvPr id="116" name="AutoShape 10"/>
            <p:cNvCxnSpPr>
              <a:stCxn id="110" idx="4"/>
              <a:endCxn id="112" idx="0"/>
            </p:cNvCxnSpPr>
            <p:nvPr/>
          </p:nvCxnSpPr>
          <p:spPr>
            <a:xfrm flipH="1">
              <a:off x="2014200" y="2550600"/>
              <a:ext cx="203760" cy="1013400"/>
            </a:xfrm>
            <a:prstGeom prst="straightConnector1">
              <a:avLst/>
            </a:prstGeom>
            <a:ln w="9360">
              <a:solidFill>
                <a:srgbClr val="39536b"/>
              </a:solidFill>
              <a:miter/>
              <a:tailEnd len="med" type="triangle" w="med"/>
            </a:ln>
          </p:spPr>
        </p:cxnSp>
        <p:cxnSp>
          <p:nvCxnSpPr>
            <p:cNvPr id="117" name="AutoShape 11"/>
            <p:cNvCxnSpPr>
              <a:stCxn id="110" idx="4"/>
              <a:endCxn id="113" idx="0"/>
            </p:cNvCxnSpPr>
            <p:nvPr/>
          </p:nvCxnSpPr>
          <p:spPr>
            <a:xfrm>
              <a:off x="2217240" y="2550600"/>
              <a:ext cx="376920" cy="1013400"/>
            </a:xfrm>
            <a:prstGeom prst="straightConnector1">
              <a:avLst/>
            </a:prstGeom>
            <a:ln w="9360">
              <a:solidFill>
                <a:srgbClr val="39536b"/>
              </a:solidFill>
              <a:miter/>
              <a:tailEnd len="med" type="triangle" w="med"/>
            </a:ln>
          </p:spPr>
        </p:cxnSp>
        <p:cxnSp>
          <p:nvCxnSpPr>
            <p:cNvPr id="118" name="AutoShape 12"/>
            <p:cNvCxnSpPr>
              <a:stCxn id="110" idx="4"/>
              <a:endCxn id="114" idx="1"/>
            </p:cNvCxnSpPr>
            <p:nvPr/>
          </p:nvCxnSpPr>
          <p:spPr>
            <a:xfrm>
              <a:off x="2217600" y="2550600"/>
              <a:ext cx="813600" cy="1067400"/>
            </a:xfrm>
            <a:prstGeom prst="straightConnector1">
              <a:avLst/>
            </a:prstGeom>
            <a:ln w="9360">
              <a:solidFill>
                <a:srgbClr val="39536b"/>
              </a:solidFill>
              <a:miter/>
              <a:tailEnd len="med" type="triangle" w="med"/>
            </a:ln>
          </p:spPr>
        </p:cxnSp>
      </p:grpSp>
      <p:grpSp>
        <p:nvGrpSpPr>
          <p:cNvPr id="119" name="Group 28"/>
          <p:cNvGrpSpPr/>
          <p:nvPr/>
        </p:nvGrpSpPr>
        <p:grpSpPr>
          <a:xfrm>
            <a:off x="4788000" y="1913040"/>
            <a:ext cx="2654280" cy="2611440"/>
            <a:chOff x="4788000" y="1913040"/>
            <a:chExt cx="2654280" cy="2611440"/>
          </a:xfrm>
        </p:grpSpPr>
        <p:sp>
          <p:nvSpPr>
            <p:cNvPr id="120" name="Oval 22"/>
            <p:cNvSpPr/>
            <p:nvPr/>
          </p:nvSpPr>
          <p:spPr>
            <a:xfrm>
              <a:off x="4876920" y="2098800"/>
              <a:ext cx="2489040" cy="2425680"/>
            </a:xfrm>
            <a:prstGeom prst="ellipse">
              <a:avLst/>
            </a:prstGeom>
            <a:noFill/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4788000" y="2722680"/>
              <a:ext cx="40644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5194440" y="4103640"/>
              <a:ext cx="406440" cy="37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6680160" y="4103640"/>
              <a:ext cx="406440" cy="37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4" name="Oval 18"/>
            <p:cNvSpPr/>
            <p:nvPr/>
          </p:nvSpPr>
          <p:spPr>
            <a:xfrm>
              <a:off x="5918040" y="1913040"/>
              <a:ext cx="406440" cy="3697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035840" y="2722680"/>
              <a:ext cx="40644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sp>
        <p:nvSpPr>
          <p:cNvPr id="126" name="Text Box 25"/>
          <p:cNvSpPr/>
          <p:nvPr/>
        </p:nvSpPr>
        <p:spPr>
          <a:xfrm>
            <a:off x="906120" y="4919760"/>
            <a:ext cx="292968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536b"/>
                </a:solidFill>
                <a:latin typeface="Arial"/>
              </a:rPr>
              <a:t>Traditional team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leader plans, directs,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nd tracks the team’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ork.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4894560" y="4919760"/>
            <a:ext cx="34527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536b"/>
                </a:solidFill>
                <a:latin typeface="Arial"/>
              </a:rPr>
              <a:t>Self-directed team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eam members participat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 planning, managing, and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racking their own work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lf-directed Team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f-directed team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attacking important problem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ve aggressive but realistic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 to defined plans and process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skilled and trained for the job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now their roles and responsibil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personally committed to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cause the team members are in control of their own work, they are motivated to do a superior job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builds self-directed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uilding Self-directed Tea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28520" y="2212920"/>
            <a:ext cx="275724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elf-directed teams must be buil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is requires a team-building proces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914560" y="4527720"/>
            <a:ext cx="4980240" cy="12934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080" rIns="102600" tIns="51480" bIns="51480" anchor="ctr">
            <a:no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efede5"/>
                </a:solidFill>
                <a:latin typeface="Arial"/>
              </a:rPr>
              <a:t>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efede5"/>
                </a:solidFill>
                <a:latin typeface="Arial"/>
              </a:rPr>
              <a:t>Membe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efede5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3535200" y="3240000"/>
            <a:ext cx="4359600" cy="1293840"/>
          </a:xfrm>
          <a:prstGeom prst="rect">
            <a:avLst/>
          </a:prstGeom>
          <a:solidFill>
            <a:srgbClr val="87ab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080" rIns="102600" tIns="51480" bIns="51480" anchor="ctr">
            <a:no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efede5"/>
                </a:solidFill>
                <a:latin typeface="Arial"/>
              </a:rPr>
              <a:t>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efede5"/>
                </a:solidFill>
                <a:latin typeface="Arial"/>
              </a:rPr>
              <a:t>Build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924360" y="1952640"/>
            <a:ext cx="3970440" cy="1293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080" rIns="102600" tIns="51480" bIns="51480" anchor="ctr">
            <a:no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efede5"/>
                </a:solidFill>
                <a:latin typeface="Arial"/>
              </a:rPr>
              <a:t>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efede5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884840" y="4678200"/>
            <a:ext cx="3024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Process disciplin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Performance measure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Estimating &amp; planning skill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Quality management skill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970520" y="3376440"/>
            <a:ext cx="2832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Goal setting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Role assignmen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Tailored team proces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Detailed and balanced plan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723280" y="2025720"/>
            <a:ext cx="21250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Team communicatio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Team coordinatio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Project tracking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Risk analysi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 rot="16200000">
            <a:off x="8047440" y="4892040"/>
            <a:ext cx="7102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 Black"/>
              </a:rPr>
              <a:t>P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 rot="16200000">
            <a:off x="8054280" y="2842200"/>
            <a:ext cx="6966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 Black"/>
              </a:rPr>
              <a:t>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Laun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28880" y="1726920"/>
            <a:ext cx="706752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e four-day TSP team-building process, te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their own goals and ro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their own strategies and proces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their product development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nd their plans to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team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wn their own processes and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why their goals are importa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ve voluntarily committed to their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lieve that their commitments are achiev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team members participate in the laun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4:48:33Z</dcterms:created>
  <dc:creator>Daniel Burton</dc:creator>
  <dc:description/>
  <cp:keywords/>
  <dc:language>en-US</dc:language>
  <cp:lastModifiedBy>wrn_loc_adm</cp:lastModifiedBy>
  <cp:lastPrinted>2001-07-23T13:49:01Z</cp:lastPrinted>
  <dcterms:modified xsi:type="dcterms:W3CDTF">2018-09-06T00:16:19Z</dcterms:modified>
  <cp:revision>27</cp:revision>
  <dc:subject>24 July 2001 / 3:30pm</dc:subject>
  <dc:title>PowerPoint Presentation</dc:title>
</cp:coreProperties>
</file>